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CAFD0-E7B0-4C3A-8202-3F4B8D9BBE22}" type="datetime">
              <a:rPr b="0" lang="de-DE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Click to move the slide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4C814-72CC-4702-A3E3-C8401B84ECB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A3449-AC11-4541-A678-0AA605B19A37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9957D-F04D-4216-8000-208C446D7BC0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16A48-2200-437A-9B7B-5C97C66EA575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E7FF4-FBF7-48D8-998D-8A3B8C4636FB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1118E-42FC-4402-9D41-F2CD53A7753E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3EE00-5AC5-4B22-8725-F8FF5DA110BE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industry is a European manufacturing success, employing nearly 1,2 million people directly and generating a turnover of over 500 billion Eu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d an EU trade surplus of €44 billion in 20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te, the industry as a whole has managed to remain globally competitive by focusing on and investing in efficiency, notably energy efficiency (We have halved the energy intensity of our production since 199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253A3-31A1-4F7A-9D79-643FD1B162C4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2AC29-A2F8-4E7E-B739-76869374BAF1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6081B-FDD2-408C-9212-21E384C936A9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0D6A9-E2CD-4CA5-B542-573F8AD16DF1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96C3-3E95-45BD-A3BB-FED01D48A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5BE3-CB83-4663-9AEF-55223E953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9B68-FDAE-4E2A-9B47-93D7CD9A6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1A26-D63C-46E8-827E-36CC5F10A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A3D5-14A2-4731-B08C-2BB0251A8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23DC-4283-432C-A7F4-DB1A803F7A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0D14-670C-4B36-A7D4-1D999085E9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07A4-3EFE-417A-922E-678243FCCE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E138-C914-4EF9-9FB7-E88B048467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1A26-4934-449B-8058-43E1E0A84A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E9D1-4F0D-4E18-B4FF-2861F44C94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D80A-798D-4834-91B3-38A1649C83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B6E9-0171-4D98-AE30-502BB31198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CE4E-F9DF-4F25-97AD-D133FC3057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91B6-F8AE-4A8B-B7B1-3A0515B3A3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4FE5-8B70-40B6-B24E-9AE4E137D3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0A35-70C1-42CC-997D-A0AFE0A09C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FE55-E0D1-448D-A81E-D9B4CD5DF4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6A29-72E6-4E12-9F55-C8C90AAC7E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8DFF-3E1C-4D2C-B972-61803F95A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09A2-7C5C-47B6-BC5C-31182E57C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8007-4FF8-4254-A172-05E97FA9C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7504-0721-4AB7-8E93-C4E27CE4E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CD3C-92ED-4167-A6DA-0D901107C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6" descr="SlideBG.BeideLogo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7200" y="632412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3647a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2A0D5-1AE9-4930-9187-14D8E003C01D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r>
              <a:rPr b="0" lang="de-DE" sz="1200" spc="-1" strike="noStrike">
                <a:solidFill>
                  <a:srgbClr val="3647a4"/>
                </a:solidFill>
                <a:latin typeface="Trebuchet MS"/>
              </a:rPr>
              <a:t> / Hier Untergliederung oder Titel einfü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Bild 6" descr="SlideBG.BeideLogo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Bild 7" descr="TitelBG.BeideLogos.gif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6" descr="SlideBG.BeideLogo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Grafik 6" descr=""/>
          <p:cNvPicPr/>
          <p:nvPr/>
        </p:nvPicPr>
        <p:blipFill>
          <a:blip r:embed="rId3"/>
          <a:stretch/>
        </p:blipFill>
        <p:spPr>
          <a:xfrm>
            <a:off x="4392720" y="6257880"/>
            <a:ext cx="1560240" cy="432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7200" y="632412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3647a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C93A8-96F4-4AA8-A95B-56128E258DE1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ild 6" descr="SlideBG.BeideLogo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2"/>
          <p:cNvSpPr/>
          <p:nvPr/>
        </p:nvSpPr>
        <p:spPr>
          <a:xfrm>
            <a:off x="6726240" y="6356520"/>
            <a:ext cx="2058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c8c8c"/>
                </a:solidFill>
                <a:latin typeface="Calibri"/>
              </a:rPr>
              <a:t>Page </a:t>
            </a:r>
            <a:fld id="{9135A513-845A-435E-A89C-0236139B55F2}" type="slidenum">
              <a:rPr b="0" lang="fr-BE" sz="1200" spc="-1" strike="noStrike">
                <a:solidFill>
                  <a:srgbClr val="8c8c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09600" y="1697040"/>
            <a:ext cx="698976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647a4"/>
                </a:solidFill>
                <a:latin typeface="Trebuchet MS"/>
              </a:rPr>
              <a:t>MINERAL RAW MATERIALS ARE THE FUTURE – </a:t>
            </a:r>
            <a:br>
              <a:rPr sz="3200"/>
            </a:br>
            <a:r>
              <a:rPr b="1" lang="en-US" sz="3200" spc="-1" strike="noStrike">
                <a:solidFill>
                  <a:srgbClr val="3647a4"/>
                </a:solidFill>
                <a:latin typeface="Trebuchet MS"/>
              </a:rPr>
              <a:t>THE IMPORTANCE OF MINING IN EUROPE TO MEET THE DEMAND </a:t>
            </a:r>
            <a:endParaRPr b="0" lang="en-US" sz="32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600" y="5257800"/>
            <a:ext cx="7196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rebuchet MS"/>
              </a:rPr>
              <a:t>Roman Stiftn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General Secretary of Eumic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Managing Director of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Austrian Mining and Steel Association and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Austrian Non Ferrous Metals Federa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0" name="Grafik 2" descr=""/>
          <p:cNvPicPr/>
          <p:nvPr/>
        </p:nvPicPr>
        <p:blipFill>
          <a:blip r:embed="rId1"/>
          <a:stretch/>
        </p:blipFill>
        <p:spPr>
          <a:xfrm>
            <a:off x="4968720" y="4616280"/>
            <a:ext cx="37767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647a4"/>
                </a:solidFill>
                <a:latin typeface="Trebuchet MS"/>
              </a:rPr>
              <a:t>EUROPE'S LOW-CARBON TRANSITION NEEDS MORE RAW MATERIALS</a:t>
            </a:r>
            <a:endParaRPr b="0" lang="en-US" sz="32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conceivable low-carbon product contains raw materials in some shape or form, an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urope's low-carbon transition will require even mo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eak-through technologies for produc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w materials 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304A8-DD4F-476F-BB28-79C1E728ED4D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Grafik 4" descr=""/>
          <p:cNvPicPr/>
          <p:nvPr/>
        </p:nvPicPr>
        <p:blipFill>
          <a:blip r:embed="rId1"/>
          <a:stretch/>
        </p:blipFill>
        <p:spPr>
          <a:xfrm>
            <a:off x="770040" y="3608280"/>
            <a:ext cx="7627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RATIO OF GLOBAL MINERAL MINE PRODUCTION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32" name="Foliennummernplatzhalt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3647a4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Grafik 4" descr=""/>
          <p:cNvPicPr/>
          <p:nvPr/>
        </p:nvPicPr>
        <p:blipFill>
          <a:blip r:embed="rId1"/>
          <a:srcRect l="0" t="4435" r="0" b="-77"/>
          <a:stretch/>
        </p:blipFill>
        <p:spPr>
          <a:xfrm>
            <a:off x="914400" y="1496880"/>
            <a:ext cx="7251840" cy="4283280"/>
          </a:xfrm>
          <a:prstGeom prst="rect">
            <a:avLst/>
          </a:prstGeom>
          <a:ln w="0">
            <a:noFill/>
          </a:ln>
        </p:spPr>
      </p:pic>
      <p:sp>
        <p:nvSpPr>
          <p:cNvPr id="234" name="Textfeld 5"/>
          <p:cNvSpPr/>
          <p:nvPr/>
        </p:nvSpPr>
        <p:spPr>
          <a:xfrm>
            <a:off x="3038400" y="5872320"/>
            <a:ext cx="37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595959"/>
                </a:solidFill>
                <a:latin typeface="Arial"/>
              </a:rPr>
              <a:t>2000-2009 compared to 1970-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Textfeld 6" descr=""/>
          <p:cNvPicPr/>
          <p:nvPr/>
        </p:nvPicPr>
        <p:blipFill>
          <a:blip r:embed="rId2"/>
          <a:stretch/>
        </p:blipFill>
        <p:spPr>
          <a:xfrm>
            <a:off x="7120080" y="5675400"/>
            <a:ext cx="191448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3500" spc="-1" strike="noStrike">
                <a:solidFill>
                  <a:srgbClr val="3647a4"/>
                </a:solidFill>
                <a:latin typeface="Trebuchet MS"/>
              </a:rPr>
              <a:t>EU 2050 GOALS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U 2050 goals require breakthrough innovations for low-carbon raw materials produ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EU’s ambition for a 2050 decarbonised economy will challenge European metals producers to go beyond their already high standar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ttl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s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 industri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r “</a:t>
            </a:r>
            <a:r>
              <a:rPr b="0" lang="en-US" sz="2000" spc="-1" strike="noStrike">
                <a:solidFill>
                  <a:srgbClr val="1f497d"/>
                </a:solidFill>
                <a:latin typeface="Trebuchet MS"/>
              </a:rPr>
              <a:t>green 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Trebuchet MS"/>
              </a:rPr>
              <a:t>electricit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reseeab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77D59-963C-4C77-99CD-5EAFDDB521E6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afik 4" descr=""/>
          <p:cNvPicPr/>
          <p:nvPr/>
        </p:nvPicPr>
        <p:blipFill>
          <a:blip r:embed="rId1"/>
          <a:stretch/>
        </p:blipFill>
        <p:spPr>
          <a:xfrm>
            <a:off x="2927520" y="3068640"/>
            <a:ext cx="57481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WHY IS IT A TOPIC FOR THE RAW MATERIALS ECONOMY? CURRENT (2012) AND PROJECTED (2030) ANNUAL DEMAND OF SPECIFIC RAW-MATERIALS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41" name="Textfeld 1"/>
          <p:cNvSpPr/>
          <p:nvPr/>
        </p:nvSpPr>
        <p:spPr>
          <a:xfrm>
            <a:off x="457200" y="635652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Source: European Commission, Raw Materials Scoreboard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rafik 4" descr=""/>
          <p:cNvPicPr/>
          <p:nvPr/>
        </p:nvPicPr>
        <p:blipFill>
          <a:blip r:embed="rId1"/>
          <a:srcRect l="15874" t="22964" r="18386" b="6614"/>
          <a:stretch/>
        </p:blipFill>
        <p:spPr>
          <a:xfrm>
            <a:off x="974880" y="1376280"/>
            <a:ext cx="7468920" cy="4500720"/>
          </a:xfrm>
          <a:prstGeom prst="rect">
            <a:avLst/>
          </a:prstGeom>
          <a:ln w="0">
            <a:noFill/>
          </a:ln>
        </p:spPr>
      </p:pic>
      <p:sp>
        <p:nvSpPr>
          <p:cNvPr id="243" name="Textfeld 1"/>
          <p:cNvSpPr/>
          <p:nvPr/>
        </p:nvSpPr>
        <p:spPr>
          <a:xfrm>
            <a:off x="858960" y="581184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AT" sz="2000" spc="-1" strike="noStrike">
                <a:solidFill>
                  <a:srgbClr val="000000"/>
                </a:solidFill>
                <a:latin typeface="Trebuchet MS"/>
              </a:rPr>
              <a:t>Where will they come from in the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3200" spc="-1" strike="noStrike">
                <a:solidFill>
                  <a:srgbClr val="3647a4"/>
                </a:solidFill>
                <a:latin typeface="Trebuchet MS"/>
              </a:rPr>
              <a:t>EU - CIRCULAR ECONOMY – </a:t>
            </a:r>
            <a:br>
              <a:rPr sz="3200"/>
            </a:br>
            <a:r>
              <a:rPr b="1" lang="de-AT" sz="3200" spc="-1" strike="noStrike">
                <a:solidFill>
                  <a:srgbClr val="3647a4"/>
                </a:solidFill>
                <a:latin typeface="Trebuchet MS"/>
              </a:rPr>
              <a:t>PACKAGE RECYCLING – A SOLUTION?</a:t>
            </a:r>
            <a:endParaRPr b="0" lang="en-US" sz="32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400800" y="57927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Quelle: European Parlia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Grafik 1" descr=""/>
          <p:cNvPicPr/>
          <p:nvPr/>
        </p:nvPicPr>
        <p:blipFill>
          <a:blip r:embed="rId1"/>
          <a:stretch/>
        </p:blipFill>
        <p:spPr>
          <a:xfrm>
            <a:off x="4324320" y="1481040"/>
            <a:ext cx="4676760" cy="37767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27"/>
          <p:cNvSpPr/>
          <p:nvPr/>
        </p:nvSpPr>
        <p:spPr>
          <a:xfrm>
            <a:off x="152280" y="1481040"/>
            <a:ext cx="8077320" cy="55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Aim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From pure was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agement to circul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conom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at does take into accoun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pects of </a:t>
            </a:r>
            <a:r>
              <a:rPr b="0" lang="en-US" sz="2000" spc="-1" strike="noStrike">
                <a:solidFill>
                  <a:srgbClr val="1f497d"/>
                </a:solidFill>
                <a:latin typeface="Trebuchet MS"/>
              </a:rPr>
              <a:t>life cycle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 materia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d product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tion and product desig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a use to re-use, recycling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ver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Metals are „permanent materials“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–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any are endlessly recyclable -- 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liennummernplatzhalter 1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387B9-B252-4920-90DA-D5FA5CEF5511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RAW MATERIALS IN THE CIRCULAR ECONOMY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467000"/>
            <a:ext cx="81360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There will always be mineral raw materials, th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re not recyclable, because they are </a:t>
            </a: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consumed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in the production (graphite electrodes in the EAF steel industr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re not recyclable, as they are, processed, </a:t>
            </a: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part of a product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e.g. iron ore in steel etc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re not or hardly recyclable, because they appear in very </a:t>
            </a: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small amounts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 products (e.g. REE etc.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re not or hardly recyclable, because materials become more and </a:t>
            </a: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more complex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144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Nevertheless exactly these mineral raw materials are essential for „green“ materials, products and technologi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RAW MATERIALS IN THE CIRCULAR ECONOMY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1437840"/>
            <a:ext cx="8136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rebuchet MS"/>
              </a:rPr>
              <a:t>Primary raw materials will be necessary also in the futu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724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As recycling alone will </a:t>
            </a:r>
            <a:r>
              <a:rPr b="0" lang="en-GB" sz="2200" spc="-1" strike="noStrike">
                <a:solidFill>
                  <a:srgbClr val="1f497d"/>
                </a:solidFill>
                <a:latin typeface="Trebuchet MS"/>
              </a:rPr>
              <a:t>not be sufficient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to feed the dem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the supply of </a:t>
            </a:r>
            <a:r>
              <a:rPr b="0" lang="en-GB" sz="2200" spc="-1" strike="noStrike">
                <a:solidFill>
                  <a:srgbClr val="1f497d"/>
                </a:solidFill>
                <a:latin typeface="Trebuchet MS"/>
              </a:rPr>
              <a:t>primary raw materials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will be irreplaceable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Therefore it is essential to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ot only foster recycling, b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so emphasize the importance of primary raw material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within the circular economy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7240"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7240"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rebuchet MS"/>
              </a:rPr>
              <a:t>An adequate Raw Materials Policy is necessary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500" spc="-1" strike="noStrike">
                <a:solidFill>
                  <a:srgbClr val="3647a4"/>
                </a:solidFill>
                <a:latin typeface="Trebuchet MS"/>
              </a:rPr>
              <a:t>CONCLUSIONS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1760" y="1268280"/>
            <a:ext cx="827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Digital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is a clear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growth opportunity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value chains might change completely through digitaliz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Digital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will further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improve operations –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lant design through “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Mining 4.0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ormous additional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demand of electrical energy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ransformation to the low-carbon economy boosts demand of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raw material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dustry has a leading role in the EU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innovation ecosystem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Raw materials must have a priority in the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FP9 innovation program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ew type of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education and job profiles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ill be required to transform the industry.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ttractiveness of technical education important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EU raw materials industry is a </a:t>
            </a:r>
            <a:r>
              <a:rPr b="1" lang="en-US" sz="2400" spc="-1" strike="noStrike">
                <a:solidFill>
                  <a:srgbClr val="1f497d"/>
                </a:solidFill>
                <a:latin typeface="Trebuchet MS"/>
              </a:rPr>
              <a:t>solution provider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for innovation, low-carbon energy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ings added value to the EU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Foliennummernplatzhalt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70130-B61B-4C2B-B30A-1178AE671357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31560" y="211428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THANK YOU FOR YOUR ATTENTION!</a:t>
            </a:r>
            <a:br>
              <a:rPr sz="2500"/>
            </a:b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 </a:t>
            </a:r>
            <a:br>
              <a:rPr sz="2500"/>
            </a:b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GLÜCKAUF!</a:t>
            </a:r>
            <a:br>
              <a:rPr sz="3200"/>
            </a:b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82160" y="4703400"/>
            <a:ext cx="71960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rebuchet MS"/>
              </a:rPr>
              <a:t>Roman Stiftn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General Secretary of Eumic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Managing Director of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Austrian Mining and Steel Association and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Austrian Non Ferrous Metals Federa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Phone: +43 (0) 590 900 331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roman.stiftner@wko.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Grafik 4" descr=""/>
          <p:cNvPicPr/>
          <p:nvPr/>
        </p:nvPicPr>
        <p:blipFill>
          <a:blip r:embed="rId1"/>
          <a:stretch/>
        </p:blipFill>
        <p:spPr>
          <a:xfrm>
            <a:off x="4968720" y="4616280"/>
            <a:ext cx="37767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500" spc="-1" strike="noStrike">
                <a:solidFill>
                  <a:srgbClr val="3647a4"/>
                </a:solidFill>
                <a:latin typeface="Trebuchet MS"/>
              </a:rPr>
              <a:t>„</a:t>
            </a:r>
            <a:r>
              <a:rPr b="1" lang="en-GB" sz="2500" spc="-1" strike="noStrike">
                <a:solidFill>
                  <a:srgbClr val="3647a4"/>
                </a:solidFill>
                <a:latin typeface="Trebuchet MS"/>
              </a:rPr>
              <a:t>NO PRODUCT WITHOUT MINERAL RAW MATERIALS – NO DAY WITHOUT MINERAL RAW MATERIALS“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410840"/>
            <a:ext cx="81360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rebuchet MS"/>
              </a:rPr>
              <a:t>Nearly no production that is not based on mineral raw materials or for which at least tools or machines based on mineral raw materials are used to produce them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rebuchet MS"/>
              </a:rPr>
              <a:t>Due to their different properties, raw materials are used for very diverse applicat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rebuchet MS"/>
              </a:rPr>
              <a:t>And the demand for mineral raw materials will grow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3" name="Grafik 4" descr=""/>
          <p:cNvPicPr/>
          <p:nvPr/>
        </p:nvPicPr>
        <p:blipFill>
          <a:blip r:embed="rId1"/>
          <a:stretch/>
        </p:blipFill>
        <p:spPr>
          <a:xfrm>
            <a:off x="573120" y="4338720"/>
            <a:ext cx="1170000" cy="1755720"/>
          </a:xfrm>
          <a:prstGeom prst="rect">
            <a:avLst/>
          </a:prstGeom>
          <a:ln w="0">
            <a:noFill/>
          </a:ln>
        </p:spPr>
      </p:pic>
      <p:pic>
        <p:nvPicPr>
          <p:cNvPr id="174" name="Grafik 5" descr=""/>
          <p:cNvPicPr/>
          <p:nvPr/>
        </p:nvPicPr>
        <p:blipFill>
          <a:blip r:embed="rId2"/>
          <a:stretch/>
        </p:blipFill>
        <p:spPr>
          <a:xfrm>
            <a:off x="1952640" y="4349880"/>
            <a:ext cx="2438280" cy="1724040"/>
          </a:xfrm>
          <a:prstGeom prst="rect">
            <a:avLst/>
          </a:prstGeom>
          <a:ln w="0">
            <a:noFill/>
          </a:ln>
        </p:spPr>
      </p:pic>
      <p:sp>
        <p:nvSpPr>
          <p:cNvPr id="175" name="Textfeld 1"/>
          <p:cNvSpPr/>
          <p:nvPr/>
        </p:nvSpPr>
        <p:spPr>
          <a:xfrm>
            <a:off x="7164360" y="57373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© Photos: www.pixaba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Grafik 1" descr=""/>
          <p:cNvPicPr/>
          <p:nvPr/>
        </p:nvPicPr>
        <p:blipFill>
          <a:blip r:embed="rId3"/>
          <a:stretch/>
        </p:blipFill>
        <p:spPr>
          <a:xfrm>
            <a:off x="4567320" y="4383000"/>
            <a:ext cx="2438280" cy="17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8040" y="457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THE IMPORTANCE OF THE RAW MATERIALS ECONOMY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8480" y="1557000"/>
            <a:ext cx="81360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"/>
              </a:rPr>
              <a:t>Value added network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ining is the  beginning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f the value ch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ineral raw materials ar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xtracted in min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evertheless is the </a:t>
            </a: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influence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of mines larger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an the pur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upplier of raw material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or the subsequent produ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9" name="Grafik 1" descr=""/>
          <p:cNvPicPr/>
          <p:nvPr/>
        </p:nvPicPr>
        <p:blipFill>
          <a:blip r:embed="rId1"/>
          <a:stretch/>
        </p:blipFill>
        <p:spPr>
          <a:xfrm>
            <a:off x="4824360" y="1282680"/>
            <a:ext cx="431496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3647a4"/>
                </a:solidFill>
                <a:latin typeface="Trebuchet MS"/>
              </a:rPr>
              <a:t>MAIN DRIVERS OF DEMAND </a:t>
            </a:r>
            <a:br>
              <a:rPr sz="3200"/>
            </a:br>
            <a:r>
              <a:rPr b="0" lang="en-GB" sz="3200" spc="-1" strike="noStrike">
                <a:solidFill>
                  <a:srgbClr val="3647a4"/>
                </a:solidFill>
                <a:latin typeface="Trebuchet MS"/>
              </a:rPr>
              <a:t>OF RAW MATERIALS</a:t>
            </a:r>
            <a:endParaRPr b="0" lang="en-US" sz="32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2120" y="13492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orld population growth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world's population ha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doubled over past 50 year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Growing wealth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GDP has grown tenfol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 past 50 year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rbanis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Trebuchet MS"/>
              </a:rPr>
              <a:t>Digitalis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Trebuchet MS"/>
              </a:rPr>
              <a:t>Low-carbon transi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Trebuchet MS"/>
              </a:rPr>
              <a:t>Transformation of industry</a:t>
            </a:r>
            <a:br>
              <a:rPr sz="2400"/>
            </a:br>
            <a:r>
              <a:rPr b="0" lang="en-GB" sz="2400" spc="-1" strike="noStrike">
                <a:solidFill>
                  <a:srgbClr val="1f497d"/>
                </a:solidFill>
                <a:latin typeface="Trebuchet MS"/>
              </a:rPr>
              <a:t>energy use to electricity </a:t>
            </a:r>
            <a:br>
              <a:rPr sz="2400"/>
            </a:b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(„Break through technologies“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Foliennummernplatzhalt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AD92A-6592-4472-9528-DDAD7B2EF2D1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r>
              <a:rPr b="0" lang="de-DE" sz="1200" spc="-1" strike="noStrike">
                <a:solidFill>
                  <a:srgbClr val="3647a4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Grafik 4" descr=""/>
          <p:cNvPicPr/>
          <p:nvPr/>
        </p:nvPicPr>
        <p:blipFill>
          <a:blip r:embed="rId1"/>
          <a:stretch/>
        </p:blipFill>
        <p:spPr>
          <a:xfrm>
            <a:off x="4896000" y="1341360"/>
            <a:ext cx="3943080" cy="2471760"/>
          </a:xfrm>
          <a:prstGeom prst="rect">
            <a:avLst/>
          </a:prstGeom>
          <a:ln w="0">
            <a:noFill/>
          </a:ln>
        </p:spPr>
      </p:pic>
      <p:pic>
        <p:nvPicPr>
          <p:cNvPr id="184" name="Grafik 5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3906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F4AF3-A2BF-4143-ABCF-17A8167F1008}" type="slidenum">
              <a:rPr b="0" lang="fr-FR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71" descr=""/>
          <p:cNvPicPr/>
          <p:nvPr/>
        </p:nvPicPr>
        <p:blipFill>
          <a:blip r:embed="rId1"/>
          <a:stretch/>
        </p:blipFill>
        <p:spPr>
          <a:xfrm>
            <a:off x="971640" y="1363680"/>
            <a:ext cx="7813440" cy="4761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THE RISE OF SUPERCOMPUTERS IS NOW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93440" y="123840"/>
            <a:ext cx="936468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647a4"/>
                </a:solidFill>
                <a:latin typeface="Trebuchet MS"/>
              </a:rPr>
              <a:t>DIGITIZATION</a:t>
            </a:r>
            <a:r>
              <a:rPr b="0" lang="en-US" sz="3600" spc="-1" strike="noStrike">
                <a:solidFill>
                  <a:srgbClr val="3647a4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647a4"/>
                </a:solidFill>
                <a:latin typeface="Trebuchet MS"/>
              </a:rPr>
              <a:t>ACROSS THE WHOLE EU ECONOMY</a:t>
            </a:r>
            <a:endParaRPr b="0" lang="en-US" sz="2800" spc="-1" strike="noStrike">
              <a:solidFill>
                <a:srgbClr val="3647a4"/>
              </a:solidFill>
              <a:latin typeface="Trebuchet MS"/>
            </a:endParaRPr>
          </a:p>
        </p:txBody>
      </p:sp>
      <p:grpSp>
        <p:nvGrpSpPr>
          <p:cNvPr id="189" name="Gruppieren 11"/>
          <p:cNvGrpSpPr/>
          <p:nvPr/>
        </p:nvGrpSpPr>
        <p:grpSpPr>
          <a:xfrm>
            <a:off x="393840" y="1633680"/>
            <a:ext cx="8213760" cy="3192480"/>
            <a:chOff x="393840" y="1633680"/>
            <a:chExt cx="8213760" cy="3192480"/>
          </a:xfrm>
        </p:grpSpPr>
        <p:sp>
          <p:nvSpPr>
            <p:cNvPr id="190" name="Ellipse 5"/>
            <p:cNvSpPr/>
            <p:nvPr/>
          </p:nvSpPr>
          <p:spPr>
            <a:xfrm>
              <a:off x="514800" y="1633680"/>
              <a:ext cx="8092800" cy="3192480"/>
            </a:xfrm>
            <a:prstGeom prst="ellipse">
              <a:avLst/>
            </a:prstGeom>
            <a:solidFill>
              <a:srgbClr val="74c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Ellipse 5"/>
            <p:cNvSpPr/>
            <p:nvPr/>
          </p:nvSpPr>
          <p:spPr>
            <a:xfrm>
              <a:off x="514800" y="1725840"/>
              <a:ext cx="7453080" cy="3007800"/>
            </a:xfrm>
            <a:prstGeom prst="ellipse">
              <a:avLst/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Ellipse 5"/>
            <p:cNvSpPr/>
            <p:nvPr/>
          </p:nvSpPr>
          <p:spPr>
            <a:xfrm>
              <a:off x="499680" y="1813320"/>
              <a:ext cx="6897240" cy="2833200"/>
            </a:xfrm>
            <a:prstGeom prst="ellipse">
              <a:avLst/>
            </a:prstGeom>
            <a:solidFill>
              <a:srgbClr val="05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Ellipse 5"/>
            <p:cNvSpPr/>
            <p:nvPr/>
          </p:nvSpPr>
          <p:spPr>
            <a:xfrm>
              <a:off x="490680" y="1921680"/>
              <a:ext cx="6164640" cy="2616480"/>
            </a:xfrm>
            <a:prstGeom prst="ellipse">
              <a:avLst/>
            </a:prstGeom>
            <a:solidFill>
              <a:srgbClr val="009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Ellipse 5"/>
            <p:cNvSpPr/>
            <p:nvPr/>
          </p:nvSpPr>
          <p:spPr>
            <a:xfrm>
              <a:off x="545040" y="2033640"/>
              <a:ext cx="5196600" cy="2392200"/>
            </a:xfrm>
            <a:prstGeom prst="ellipse">
              <a:avLst/>
            </a:prstGeom>
            <a:solidFill>
              <a:srgbClr val="008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Ellipse 5"/>
            <p:cNvSpPr/>
            <p:nvPr/>
          </p:nvSpPr>
          <p:spPr>
            <a:xfrm>
              <a:off x="545040" y="2219760"/>
              <a:ext cx="4313160" cy="2019960"/>
            </a:xfrm>
            <a:prstGeom prst="ellipse">
              <a:avLst/>
            </a:prstGeom>
            <a:solidFill>
              <a:srgbClr val="007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Ellipse 5"/>
            <p:cNvSpPr/>
            <p:nvPr/>
          </p:nvSpPr>
          <p:spPr>
            <a:xfrm>
              <a:off x="569880" y="2306520"/>
              <a:ext cx="3623760" cy="1846800"/>
            </a:xfrm>
            <a:prstGeom prst="ellipse">
              <a:avLst/>
            </a:prstGeom>
            <a:solidFill>
              <a:srgbClr val="006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Ellipse 5"/>
            <p:cNvSpPr/>
            <p:nvPr/>
          </p:nvSpPr>
          <p:spPr>
            <a:xfrm>
              <a:off x="600120" y="2426400"/>
              <a:ext cx="2792520" cy="1606680"/>
            </a:xfrm>
            <a:prstGeom prst="ellipse">
              <a:avLst/>
            </a:prstGeom>
            <a:solidFill>
              <a:srgbClr val="005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llipse 7"/>
            <p:cNvSpPr/>
            <p:nvPr/>
          </p:nvSpPr>
          <p:spPr>
            <a:xfrm>
              <a:off x="641880" y="2653560"/>
              <a:ext cx="2067120" cy="1152360"/>
            </a:xfrm>
            <a:prstGeom prst="ellipse">
              <a:avLst/>
            </a:prstGeom>
            <a:solidFill>
              <a:srgbClr val="004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Ellipse 4"/>
            <p:cNvSpPr/>
            <p:nvPr/>
          </p:nvSpPr>
          <p:spPr>
            <a:xfrm>
              <a:off x="673920" y="2982600"/>
              <a:ext cx="1045080" cy="494640"/>
            </a:xfrm>
            <a:prstGeom prst="ellipse">
              <a:avLst/>
            </a:prstGeom>
            <a:solidFill>
              <a:srgbClr val="003c7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hteck 8"/>
            <p:cNvSpPr/>
            <p:nvPr/>
          </p:nvSpPr>
          <p:spPr>
            <a:xfrm>
              <a:off x="393840" y="3101400"/>
              <a:ext cx="11656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hteck 9"/>
            <p:cNvSpPr/>
            <p:nvPr/>
          </p:nvSpPr>
          <p:spPr>
            <a:xfrm>
              <a:off x="1348920" y="2880720"/>
              <a:ext cx="14954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Media &amp;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Entertainment (Youtub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hteck 9"/>
            <p:cNvSpPr/>
            <p:nvPr/>
          </p:nvSpPr>
          <p:spPr>
            <a:xfrm>
              <a:off x="2518560" y="2978280"/>
              <a:ext cx="9770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Retail (Amaz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hteck 9"/>
            <p:cNvSpPr/>
            <p:nvPr/>
          </p:nvSpPr>
          <p:spPr>
            <a:xfrm>
              <a:off x="3180960" y="2980080"/>
              <a:ext cx="1190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ICT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(iphone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hteck 9"/>
            <p:cNvSpPr/>
            <p:nvPr/>
          </p:nvSpPr>
          <p:spPr>
            <a:xfrm>
              <a:off x="4142520" y="2770200"/>
              <a:ext cx="82332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Finance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Sector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(Digital Currenc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hteck 9"/>
            <p:cNvSpPr/>
            <p:nvPr/>
          </p:nvSpPr>
          <p:spPr>
            <a:xfrm>
              <a:off x="4852440" y="2676240"/>
              <a:ext cx="7790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Manufac-turing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(3D-Pri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hteck 9"/>
            <p:cNvSpPr/>
            <p:nvPr/>
          </p:nvSpPr>
          <p:spPr>
            <a:xfrm>
              <a:off x="6522120" y="2977560"/>
              <a:ext cx="8748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Healthcare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(E-Healt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hteck 9"/>
            <p:cNvSpPr/>
            <p:nvPr/>
          </p:nvSpPr>
          <p:spPr>
            <a:xfrm>
              <a:off x="7290720" y="2977200"/>
              <a:ext cx="782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Calibri"/>
                </a:rPr>
                <a:t>Basic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hteck 9"/>
            <p:cNvSpPr/>
            <p:nvPr/>
          </p:nvSpPr>
          <p:spPr>
            <a:xfrm>
              <a:off x="7983360" y="2949840"/>
              <a:ext cx="5022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0000"/>
                  </a:solidFill>
                  <a:latin typeface="Calibri"/>
                </a:rPr>
                <a:t>Oil &amp;</a:t>
              </a:r>
              <a:br>
                <a:rPr sz="1400"/>
              </a:br>
              <a:r>
                <a:rPr b="1" lang="de-DE" sz="1400" spc="-1" strike="noStrike">
                  <a:solidFill>
                    <a:srgbClr val="ff0000"/>
                  </a:solidFill>
                  <a:latin typeface="Calibri"/>
                </a:rPr>
                <a:t> G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hteck 9"/>
            <p:cNvSpPr/>
            <p:nvPr/>
          </p:nvSpPr>
          <p:spPr>
            <a:xfrm>
              <a:off x="5452920" y="2758320"/>
              <a:ext cx="123660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Auto-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motive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 (autonomous driving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0" name="Gerade Verbindung mit Pfeil 26"/>
          <p:cNvCxnSpPr/>
          <p:nvPr/>
        </p:nvCxnSpPr>
        <p:spPr>
          <a:xfrm flipV="1">
            <a:off x="1023480" y="5184000"/>
            <a:ext cx="7281000" cy="26280"/>
          </a:xfrm>
          <a:prstGeom prst="straightConnector1">
            <a:avLst/>
          </a:prstGeom>
          <a:ln w="38160">
            <a:solidFill>
              <a:srgbClr val="66ccff"/>
            </a:solidFill>
            <a:miter/>
            <a:tailEnd len="med" type="arrow" w="med"/>
          </a:ln>
        </p:spPr>
      </p:cxnSp>
      <p:sp>
        <p:nvSpPr>
          <p:cNvPr id="211" name="TextBox 30"/>
          <p:cNvSpPr/>
          <p:nvPr/>
        </p:nvSpPr>
        <p:spPr>
          <a:xfrm>
            <a:off x="198360" y="5628960"/>
            <a:ext cx="5006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70000"/>
                <a:tab algn="l" pos="31896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600" spc="-1" strike="noStrike" u="sng">
                <a:solidFill>
                  <a:srgbClr val="231f20"/>
                </a:solidFill>
                <a:uFillTx/>
                <a:latin typeface="Calibri"/>
              </a:rPr>
              <a:t>	</a:t>
            </a:r>
            <a:r>
              <a:rPr b="0" i="1" lang="en-GB" sz="1200" spc="-1" strike="noStrike">
                <a:solidFill>
                  <a:srgbClr val="7f7f7f"/>
                </a:solidFill>
                <a:latin typeface="Calibri"/>
                <a:ea typeface="Calibri"/>
              </a:rPr>
              <a:t>Source:</a:t>
            </a:r>
            <a:r>
              <a:rPr b="0" i="1" lang="en-GB" sz="1200" spc="-1" strike="noStrike">
                <a:solidFill>
                  <a:srgbClr val="7f7f7f"/>
                </a:solidFill>
                <a:latin typeface="Calibri"/>
                <a:ea typeface="Calibri"/>
              </a:rPr>
              <a:t>	</a:t>
            </a:r>
            <a:r>
              <a:rPr b="0" i="1" lang="en-US" sz="1200" spc="-1" strike="noStrike">
                <a:solidFill>
                  <a:srgbClr val="7f7f7f"/>
                </a:solidFill>
                <a:latin typeface="Calibri"/>
                <a:ea typeface="Calibri"/>
              </a:rPr>
              <a:t>Global Center for Digital Business Transformation, an IMD (Lausanne, Switzerland) and Cisco Initiative with Accenture    https://www.accenture.com/de-de/insight-digital-oil-and-ga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TextBox 31" descr=""/>
          <p:cNvPicPr/>
          <p:nvPr/>
        </p:nvPicPr>
        <p:blipFill>
          <a:blip r:embed="rId1"/>
          <a:stretch/>
        </p:blipFill>
        <p:spPr>
          <a:xfrm>
            <a:off x="7089840" y="5267160"/>
            <a:ext cx="1334880" cy="85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ELEMENTS USED IN THE PRODUCTION OF COMPUTER CHIPS (1980S)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pic>
        <p:nvPicPr>
          <p:cNvPr id="214" name="Inhaltsplatzhalter 2" descr=""/>
          <p:cNvPicPr/>
          <p:nvPr/>
        </p:nvPicPr>
        <p:blipFill>
          <a:blip r:embed="rId1"/>
          <a:stretch/>
        </p:blipFill>
        <p:spPr>
          <a:xfrm>
            <a:off x="1204920" y="1413000"/>
            <a:ext cx="7039080" cy="4425840"/>
          </a:xfrm>
          <a:prstGeom prst="rect">
            <a:avLst/>
          </a:prstGeom>
          <a:ln w="0">
            <a:noFill/>
          </a:ln>
        </p:spPr>
      </p:pic>
      <p:sp>
        <p:nvSpPr>
          <p:cNvPr id="215" name="Foliennummernplatzhalter 1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Textfeld 5" descr=""/>
          <p:cNvPicPr/>
          <p:nvPr/>
        </p:nvPicPr>
        <p:blipFill>
          <a:blip r:embed="rId2"/>
          <a:stretch/>
        </p:blipFill>
        <p:spPr>
          <a:xfrm>
            <a:off x="5437080" y="5924520"/>
            <a:ext cx="2792520" cy="3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ELEMENTS USED IN THE PRODUCTION OF COMPUTER CHIPS (1990S)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pic>
        <p:nvPicPr>
          <p:cNvPr id="218" name="Inhaltsplatzhalter 2" descr=""/>
          <p:cNvPicPr/>
          <p:nvPr/>
        </p:nvPicPr>
        <p:blipFill>
          <a:blip r:embed="rId1"/>
          <a:stretch/>
        </p:blipFill>
        <p:spPr>
          <a:xfrm>
            <a:off x="1201680" y="1406520"/>
            <a:ext cx="7201080" cy="4422960"/>
          </a:xfrm>
          <a:prstGeom prst="rect">
            <a:avLst/>
          </a:prstGeom>
          <a:ln w="0">
            <a:noFill/>
          </a:ln>
        </p:spPr>
      </p:pic>
      <p:sp>
        <p:nvSpPr>
          <p:cNvPr id="219" name="Foliennummernplatzhalter 1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Textfeld 6" descr=""/>
          <p:cNvPicPr/>
          <p:nvPr/>
        </p:nvPicPr>
        <p:blipFill>
          <a:blip r:embed="rId2"/>
          <a:stretch/>
        </p:blipFill>
        <p:spPr>
          <a:xfrm>
            <a:off x="5437080" y="5924520"/>
            <a:ext cx="2792520" cy="3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ELEMENTS USED IN THE PRODUCTION OF COMPUTER CHIPS (2000S)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pic>
        <p:nvPicPr>
          <p:cNvPr id="222" name="Inhaltsplatzhalter 2" descr=""/>
          <p:cNvPicPr/>
          <p:nvPr/>
        </p:nvPicPr>
        <p:blipFill>
          <a:blip r:embed="rId1"/>
          <a:srcRect l="0" t="0" r="0" b="1936"/>
          <a:stretch/>
        </p:blipFill>
        <p:spPr>
          <a:xfrm>
            <a:off x="1249200" y="1447920"/>
            <a:ext cx="7201080" cy="4319640"/>
          </a:xfrm>
          <a:prstGeom prst="rect">
            <a:avLst/>
          </a:prstGeom>
          <a:ln w="0">
            <a:noFill/>
          </a:ln>
        </p:spPr>
      </p:pic>
      <p:sp>
        <p:nvSpPr>
          <p:cNvPr id="223" name="Foliennummernplatzhalter 1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feld 1"/>
          <p:cNvSpPr/>
          <p:nvPr/>
        </p:nvSpPr>
        <p:spPr>
          <a:xfrm rot="16200000">
            <a:off x="-1520280" y="3549240"/>
            <a:ext cx="44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AT" sz="1800" spc="-1" strike="noStrike">
                <a:solidFill>
                  <a:srgbClr val="ff0000"/>
                </a:solidFill>
                <a:latin typeface="Arial"/>
              </a:rPr>
              <a:t>increasing complexity of product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feld 5"/>
          <p:cNvSpPr/>
          <p:nvPr/>
        </p:nvSpPr>
        <p:spPr>
          <a:xfrm rot="16200000">
            <a:off x="-1229760" y="3563640"/>
            <a:ext cx="44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AT" sz="1800" spc="-1" strike="noStrike">
                <a:solidFill>
                  <a:srgbClr val="ff0000"/>
                </a:solidFill>
                <a:latin typeface="Arial"/>
              </a:rPr>
              <a:t>(61 out of 92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Textfeld 8" descr=""/>
          <p:cNvPicPr/>
          <p:nvPr/>
        </p:nvPicPr>
        <p:blipFill>
          <a:blip r:embed="rId2"/>
          <a:stretch/>
        </p:blipFill>
        <p:spPr>
          <a:xfrm>
            <a:off x="5437080" y="5924520"/>
            <a:ext cx="279252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6:44:58Z</dcterms:created>
  <dc:creator>who</dc:creator>
  <dc:description/>
  <dc:language>en-US</dc:language>
  <cp:lastModifiedBy>Stiftner Roman, DI, WKÖ FVI1_FVI15</cp:lastModifiedBy>
  <cp:lastPrinted>2018-05-15T13:27:18Z</cp:lastPrinted>
  <dcterms:modified xsi:type="dcterms:W3CDTF">2018-05-17T15:19:22Z</dcterms:modified>
  <cp:revision>152</cp:revision>
  <dc:subject/>
  <dc:title>Folie 1</dc:title>
</cp:coreProperties>
</file>